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B79-36A2-427F-A8D5-F5BB9BE9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ADE-7332-4560-9B43-D9F49B8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D83-7563-4EAC-B1FF-BDF7DE0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095-3450-4729-A182-828CD15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390-DAD0-4CA4-B2DD-AF91DDC8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043-86CB-49FB-91F9-3A2D0323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856-046C-4123-A7EA-46F5471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BC5-D1B8-4930-BD27-DFB16F6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09E-A7CE-4DF5-9887-D01BC325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49E-3846-4608-8DE4-BC1F02EF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64B-3CD3-450F-B5B4-418FA2D9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D43-7B45-4958-9EC5-1FA04CB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6F57-6F1D-40A3-8B03-64DC27539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26200" y="720"/>
            <a:ext cx="635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                  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71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сусе, с наште грехов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товарен бе;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й-тежки мъки изтърпя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и свята кръв прол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5920" y="-26640"/>
            <a:ext cx="660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Умря Той да помилва на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от да ни даде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Когато дойде сам Христос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нас в рай ще завед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814680" y="-26640"/>
            <a:ext cx="689076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Живей Ти в мене, о, Христе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 Отца царувай там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бител Своя туй сърце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Ти направи и хр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54240" y="-157680"/>
            <a:ext cx="688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comic"/>
              </a:rPr>
              <a:t>Припев:</a:t>
            </a:r>
            <a:r>
              <a:rPr b="1" lang="en-US" sz="3600" spc="-1" strike="noStrike">
                <a:solidFill>
                  <a:srgbClr val="808080"/>
                </a:solidFill>
                <a:latin typeface="comic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, как е Спасът милости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рощава грех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Със вяра в Него ще съм ж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</a:t>
            </a: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о вечни веков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31:45Z</dcterms:created>
  <dc:creator>TrifonTrifonow</dc:creator>
  <dc:description/>
  <dc:language>en-US</dc:language>
  <cp:lastModifiedBy>TrifonTrifonow</cp:lastModifiedBy>
  <dcterms:modified xsi:type="dcterms:W3CDTF">2005-11-23T18:48:38Z</dcterms:modified>
  <cp:revision>6</cp:revision>
  <dc:subject/>
  <dc:title>Slide 1</dc:title>
</cp:coreProperties>
</file>